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467480" y="299520"/>
            <a:ext cx="960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2"/>
          <p:cNvSpPr/>
          <p:nvPr/>
        </p:nvSpPr>
        <p:spPr>
          <a:xfrm>
            <a:off x="6931080" y="299880"/>
            <a:ext cx="140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Special Need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seven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derstanding credi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uilding a credit histor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stablish a steady work recor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ay all bills on tim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pen a checking account. Don’t bounce check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pen a savings account. Make regular deposi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pply for a local store credit card. Make regular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et a co-signer on a loan. Pay off the loan as agree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6609240" y="6323400"/>
            <a:ext cx="207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7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7-2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redit repor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6605280" y="6323400"/>
            <a:ext cx="2066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7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7-2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2708280" y="915840"/>
            <a:ext cx="3727440" cy="50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is a debt load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2819520" y="914400"/>
            <a:ext cx="3574800" cy="48769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6602760" y="6323400"/>
            <a:ext cx="206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7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7-3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much can you afford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much can you afford to borrow? (the 20-10 rul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0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ver borrow more than 20% of your yearly net incom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earn $400 a month after tax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yearly net income is: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00 x 12 months = $4,8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0% of your yearly net income is: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,800 x 20% = $96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 should have less than $960 of debt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0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monthly payments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hould be less than 10% of your 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monthly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t incom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earn $400 a month after tax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0% of your monthly net income is: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00 x 10% = $4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 should pay less than $40 per month for all debts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6609240" y="6323400"/>
            <a:ext cx="207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7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7-3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paring credit car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ype of account/ Name of ca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cceptabil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nnual fe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P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race perio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redit limi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inimum monthly pay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ate payment fe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ther featu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6602760" y="6323400"/>
            <a:ext cx="206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7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7-4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5410080" y="3429000"/>
            <a:ext cx="319104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re you thinking about a credit card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. Shop around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ok at different sour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. Read and understand the contract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ad the contract carefull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ake your time before you sig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et a copy of your signed contrac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3. Know your cost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gure out total pri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ake the largest payments possibl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now the charges for missed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609240" y="6323400"/>
            <a:ext cx="207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7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7-4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5334120" y="3429000"/>
            <a:ext cx="321948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redit card promotio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ngratulations!! You have been selected to receive one of our $5000 credit cards …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5% Cash Back on Purchases!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No Annual Fee!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0% Introductory APR!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BAD CREDIT? IT’S OKAY ... YOU’RE APPROVED!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chool is tough enough but choosing the best credit card to get you through is a breeze…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YOU CAN’T BE TURNED DOWN!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arn points towards free merchandise!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GUARANTEED INSTANT APPROVA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Credit? It’s Okay ... You’re Approved!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is cool card comes loaded with a great low interest rate, photocard ID, and super discounts on stuff you really want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NO Co-Signer and NO Minimum Credit Required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oney-Saving Student Special Off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ere are no job or credit check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You can’t afford to pass this up!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6621840" y="6323400"/>
            <a:ext cx="205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7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7-4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keep it or discard it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4257720" cy="4343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4648320" y="2362320"/>
            <a:ext cx="4190760" cy="20286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6609240" y="6323400"/>
            <a:ext cx="207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7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7-4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ading a credit card state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605280" y="6323400"/>
            <a:ext cx="2066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7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7-4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2421000" y="914400"/>
            <a:ext cx="4302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3962520" y="3124080"/>
            <a:ext cx="4667040" cy="27320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ning signs of financial difficulti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 don’t know how much you ow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 often pay bills l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 obtain a new loan to pay old loa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 pay only the minimum balance each month on credit cards and other charge accou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 spend more than 20% of your net income (after paying rent) on loans and credi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ard pay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 would have an immediate financi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oblem if you lost your job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 are spending more th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 ear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 use savings to pa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ay-to-day expens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6602760" y="6323400"/>
            <a:ext cx="206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7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7-5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dvantages of credi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sing credit means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 can buy items now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 don’t have to carry cash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 have a record of your purcha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venien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bills are combined into one pay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6602760" y="6323400"/>
            <a:ext cx="206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7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7-1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5105520" y="3200400"/>
            <a:ext cx="3809880" cy="27622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irst steps to take if you can’t pay your bill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ake a close look at your budge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rim your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 realistic about what you can affor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act your credito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ll them: why you can’t pa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at you intend to pa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/how much you will be able to pa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k if you can work out a new payment schedul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possible, continue to make minimum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6611040" y="6323400"/>
            <a:ext cx="207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7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7-5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understanding credi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ational Foundation for Credit Counseling (NFCC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s information on financial and consumer topic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views your incom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set up a realistic personal budge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contact your creditors and make arrangements for reduced payments 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r bil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plan for future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s may be available for no charge or reasonable fe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ed in yellow pages under “credit counseling.”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tch out for “credit repair” companies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for-prof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advertise they can erase a poor credit history quickly —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DON’T BELIEVE IT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6620040" y="6323400"/>
            <a:ext cx="205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7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7-5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disadvantages of credit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sing credit also means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 pay more for items (interest payment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credit cards may be lost or stole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ossible added fe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 may do more impulse buy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t’s easy to lose track of how much you spen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ossible financial problem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6609240" y="6323400"/>
            <a:ext cx="207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7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7-1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your responsibiliti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orrow only what you can repa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ad and understand the credit contrac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ay debts prompt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otify the credit company immediately if you cannot meet pay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port lost or stolen credit cards immediate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ver give your card number over the phone unless you placed the ca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6621840" y="6323400"/>
            <a:ext cx="205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7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7-1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five C’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haract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ill you repay the deb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re you honest and reliabl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ave you used credit befor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o you pay your bills on tim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o you have a good credit repor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o you have character reference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long have you lived at your present addres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long have you been at your present job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6602760" y="6323400"/>
            <a:ext cx="206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7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7-2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five C’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 Capit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if you don’t repay the deb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o you have any valuable asset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o you own property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o you have a savings accou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o you have investment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6609240" y="6323400"/>
            <a:ext cx="207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7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7-2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five C’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3. Capaci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an you repay the deb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o you earn enough income to support your credit us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o you have a steady job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is your salary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many other debts do you hav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are your current living expense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are your current debt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many dependents do you hav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6621840" y="6323400"/>
            <a:ext cx="205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7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7-2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five C’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. Collat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o you have assets that can be leveraged against the deb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assets do you have, such as a car or property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621840" y="6323400"/>
            <a:ext cx="205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7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7-2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five C’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5. Condi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ave you been working regularly in an occupation that is likely to provide enough  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income so that you can repay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re current economic conditions, like a recession, a consideration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are standard interest rates in the current economy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6621840" y="6323400"/>
            <a:ext cx="205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special needs – lesson 7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7-2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15T22:14:29Z</dcterms:modified>
  <cp:revision>27</cp:revision>
  <dc:subject/>
  <dc:title>lesson three</dc:title>
</cp:coreProperties>
</file>