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81874-EC37-47C0-AB95-B31C532CF1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2354A-8BE0-4D13-A23A-B58E83802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AF249-5619-43F1-8320-25CF6CE29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six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rs and loan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7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car loa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variables includ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nual Percentage Rate (APR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ngth of the loa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thly paym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finance char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to be repai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7075800" y="6323400"/>
            <a:ext cx="163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066680" y="3124080"/>
          <a:ext cx="7010640" cy="2581560"/>
        </p:xfrm>
        <a:graphic>
          <a:graphicData uri="http://schemas.openxmlformats.org/drawingml/2006/table">
            <a:tbl>
              <a:tblPr/>
              <a:tblGrid>
                <a:gridCol w="1447920"/>
                <a:gridCol w="1447920"/>
                <a:gridCol w="1447560"/>
                <a:gridCol w="1371600"/>
                <a:gridCol w="1295640"/>
              </a:tblGrid>
              <a:tr h="768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ngth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 loan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monthly pay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finance charg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 be repai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.00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58.1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69.98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293.0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198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293.0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198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.25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66.67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78.97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600.1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738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600.1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738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.00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69.55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82.0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703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921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703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921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56"/>
          <p:cNvSpPr/>
          <p:nvPr/>
        </p:nvSpPr>
        <p:spPr>
          <a:xfrm>
            <a:off x="990720" y="2743200"/>
            <a:ext cx="70866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example of how loans can vary: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orrowing $8,000 at different rates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to calculate the total cost of a loa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7072560" y="6323400"/>
            <a:ext cx="163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 estimate the total cost of a loan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mount of the loan x APR x number of years*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10,000 x 0.10 x 5 years = $5,000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5,000 + $10,000 = $15,000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 estimate the amount of monthly paymen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to be paid divided by number of months of the loan*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15,000 / 60 = $250 per month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 These formulas produce estimates that are slightly higher than your actual costs and payments,      because they do not account for the reduction of interest payments as you repay the loa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Truth in Lending Ac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he Truth in Lending Act requires lender to inform borrower of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mount financ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charges are included in amount financ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finance charge, in dolla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nnual Percentage Rate (APR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ment schedu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amount of payment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sales pri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epayment penalty, if 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ate payment penalty, if 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ecurity intere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surance char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706932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auto insurance coverag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liability (40–50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odily injury coverag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operty-damage coverage (e.g.,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 another person’s car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llision (up to 30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for the physical damage to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r car as a result of an accid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imited by deductib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mprehensive (about 12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for damage caused by vandalism, hailstorms, floods,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heft, etc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medical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vers medical payments for driver and passengers injured in accid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uninsured motori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eimburses you for bodily injury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 accidents caused by uninsured drive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wing and labo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rental reimbursem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a specific amount per day to rent a car while yours is being fix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707544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insurance rates are se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ersonal characteristic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g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ex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rital statu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ersonal habits (e.g., smoking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ype and frequency of vehicle use (e.g., commuting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geographic location (often classified by zip code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ural” usually lowers rates, “urban” usually raises rat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riving recor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ccident with death, bodily injury, or property damage in excess of $400 may trigger surcharge on premium for 3 yea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umber and kind of moving violations (and total of associated points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umber of years insured with the comp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vehicle characteristic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amage, repair, and theft record of type and model of ca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ge of ca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701676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M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possess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ights of credito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seize car as soon as you defaul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’t commit a breach of the peace, e.g., use physical force or threats of for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keep car or resell i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not keep or sell any personal property in car (not including improve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uch as a stereo or luggage rac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righ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buy back car by paying the full amount owed on it plus repossession expens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legal responsibil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ust pay the “deficiency balance”—the amount of debt remaining even after your credit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sold your c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7028280" y="6323400"/>
            <a:ext cx="1686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N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leasing a motor vehicl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maller initial outlay than down payment when buying on credi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onthly lease payments may be less than monthly finance payment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ease agreement provides detailed records for business purpos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ftentimes, all service charges related to maintenance are included in lease, so there is no additional outlay of money for regular maintenan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o ownership interest in the vehic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ust meet requirements similar to applying for credi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dditional costs occur (such as for extra mileage, certain repairs, ending lease early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iscussion of leasing vs. buy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 must decide which option makes the most sense for your situation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o you have cash available for a down paymen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of a monthly payment can you afford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long do you plan to keep the car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7045200" y="6323400"/>
            <a:ext cx="168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O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9"/>
          <p:cNvSpPr/>
          <p:nvPr/>
        </p:nvSpPr>
        <p:spPr>
          <a:xfrm>
            <a:off x="7059960" y="6323400"/>
            <a:ext cx="167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sts of owning and operating a motor vehicl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wnership (fixed) cos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preciation (based on purchase price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terest on loan (if buying on credit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suran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egistration fee, license, tax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perating (variable) cos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Gasolin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il and other fluid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ir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intenance and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rking and toll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much can you afford?(the 20-10 rule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ever borrow more than 20% of your yearly net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earn $400 a month after taxes, then your net income in one year is: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2 x $400 = $4,80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lculate 20% of your annual net income to find your safe debt load: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4,800 x 20% = $96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, you should never have more than $960 of debt outstand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e: Housing debt (i.e., mortgage payments) should not be counted as part of the 20%, but other debt should be included, such as car loans, student loans and credit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onthly payments shouldn’t exceed 10% of your monthly net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r take-home pay is $400 a month 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400 x 10% = $4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total monthly debt payments shouldn’t total more than $40 per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e: Housing payments (i.e., mortgage payments) should not be counted as part of the 10%, but other debt should be included, such as car loans, student loans and credit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06356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nsumer decision-mak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ing to spend your money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 I really need this item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it worth the time I spend making the money to buy i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there a better use for my money right now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ing on the right purchas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level of quality do I want (low, medium, or high)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level of quality do I need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types of services and repairs does the dealer offe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wait until there is a sale on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buy a new or a used ca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I buy a used car, should I buy it from a dealer or from a private party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choose a car with a well-known name even if it costs more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 I know anyone who owns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e the warranty and the service contracts on the car comparable with warranties and service contracts on similar car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do consumer magazines say about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7047000" y="6323400"/>
            <a:ext cx="1666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used ca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fore you begin shopping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ide how much you can afford to spen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ide which car models and options interest you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arch the reliability of the model of car you wa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ere the nearest repair facility is that works on the type of car you wa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ether parts are readily available for the type of car you want. Find rec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ices in used-car “blue books” in the library, on the Internet, in newspaper ad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sumer magazines, etc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p for financ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actor in the costs of the loan and the cost of maintenan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now how to read a “Buyer’s Guide” stick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 you shop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the reputation of the deal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at type of warranty comes with the ca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at type of service contract comes with the ca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705348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ources of used car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0552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new-car dealer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ovide quality used vehicles; service department available; higher prices than other sourc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used-car dealer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pecialize in previously owned vehicles; limited warranty (if any); vehicles may be in poor conditio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rivate partie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y be a good buy if vehicle was well maintained; few consumer protection regulations apply to private party sal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ther source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uch as auctions or sales by government agencies, auto rental companies, and on the Internet; most of these vehicles have been driven many mil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new ca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before you begin shopping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which car model and specific options you want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Find out the invoice price and the true cost to the dealer of the model and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ptions you want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how much you are willing to pay the dealer above the invoice pric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ke your offer to as many dealers as possibl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mpare final sales prices with other dealers and buying servic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mpare financing costs from various sourc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f you already have a car, find out its value independent of the dealer’s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ade-in offer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y to sell your old car yourself (dealers usually give better deals without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 trade-in)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whether you need an optional service contract or credit insuranc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7080120" y="6323400"/>
            <a:ext cx="165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rranti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-is (no warranty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 expressed or implied warrant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buy a car and have problems with it, you must pay for any repairs yourself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me states do not permit “as-is” sales on used ca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mplied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arranty of merchantability—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product will do what it is design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 d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arranty of fitness for a particular purpose—a product will do what the seller promises it will d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ways in effect unless the product is sold as-is or the seller says in writing that there is no warrant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aler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ffered and specifically written b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deal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rms and conditions can vary great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eful to compare warranty term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n similar cars or negotiate warranty cover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unexpired manufacturer’s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ufacturer’s warranty can sometimes be transferred to the new owner. There may be a fee for the transfer proces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7044840" y="6323400"/>
            <a:ext cx="167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ervice contracts (also called “extended warranties”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before deciding to buy a service contract, find out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he co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ich repairs the contract cove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warranty already covers the same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vehicle is likely to need repairs and, if so, the potential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st of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re is a deductible and, if so, what it i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repairs and service can be performed at locations other than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t the dealership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contract covers incidental expenses such as tow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re is a cancellation or refund policy and, if so, the co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dealer or company offering the service is reputab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you can purchase the service contract late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7037640" y="6323400"/>
            <a:ext cx="1680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8T18:14:17Z</dcterms:modified>
  <cp:revision>76</cp:revision>
  <dc:subject/>
  <dc:title>lesson three</dc:title>
</cp:coreProperties>
</file>