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1EB1-9C5F-4327-99E5-6BEDF2317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FEE1-CCE7-41F9-A163-791CB75D0F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E4E9-1552-4554-8B76-DDC89B6676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F4696-7CE2-4FDA-9B84-EE6588573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5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8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29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1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3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6" descr=""/>
          <p:cNvPicPr/>
          <p:nvPr/>
        </p:nvPicPr>
        <p:blipFill>
          <a:blip r:embed="rId2"/>
          <a:stretch/>
        </p:blipFill>
        <p:spPr>
          <a:xfrm>
            <a:off x="304920" y="6172200"/>
            <a:ext cx="1657080" cy="53172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304920" y="6172200"/>
            <a:ext cx="1676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3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8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o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king decisio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13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decision-making proces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decision-making proc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ntify the probl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ather information and list possible alternativ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ider consequences of each alterna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lect the best course of ac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valuate the resul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 Box 9"/>
          <p:cNvSpPr/>
          <p:nvPr/>
        </p:nvSpPr>
        <p:spPr>
          <a:xfrm>
            <a:off x="714708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ctors that can influence a decision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is important to your family, others in your culture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ople you kno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ssure for positive or negative behavi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i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are accustomed to doing i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s wa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lings (love, anger, frustration, ambivalence, rejection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-1648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make a certain decis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279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. Fami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r family’s prefere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cisions other family members have mad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. Risks and consequ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wi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hat (or how much) you st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 lo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.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ul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Text Box 4"/>
          <p:cNvSpPr/>
          <p:nvPr/>
        </p:nvSpPr>
        <p:spPr>
          <a:xfrm>
            <a:off x="714456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mon decision-making strateg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pontane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first option that comes to mind; giving little or no consideration to the consequences of the cho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li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oing along with family, school, work, or peer expecta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rocrastin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stponing thought and action until options are limi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goniz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umulating so much information that analyzing the options becomes overwhelm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n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an option that will be both intellectually and emotionally satisfy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si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might achieve the best result, regardless of the risk inv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voidan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is most likely to avoid the worst possible resul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will bring some success, offend the fewest people, and pose the least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ynthesi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oosing the option that has a good chance to succeed and that you like the b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7117920" y="6323400"/>
            <a:ext cx="160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s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conomic influences on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pr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es in the buying power of the dollar, inflation/def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sumer spend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mand for goods and servi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oss domestic product (GDP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value of goods and services produced within the count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using sta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new homes being bui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 of borrowing mone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419360" y="1447560"/>
            <a:ext cx="3809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oney suppl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vailable for spending in the ec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ock market index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uch as the Dow Jones averages, Standard &amp; Poor’s 500) indicate general trends in the value of U.S. sto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employ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number of people without employment who are willing to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457200" y="91440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se economic factors may influence personal and financial decisions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713268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isks associated with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risk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s that may create a less-than-desirable situation. Personal risk may come in the form of inconvenience, embarrassment, safety, 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alth concer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flation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sing prices cause lower buying power. Buying an item later may mean a higher pri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-rat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interest rates affect your costs (when borrowing) and your benefits (when saving or invest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419360" y="15235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come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nging careers or reduced spending by consumers can result in a lower income or loss of one’s employment. Career changes or job loss can result in a lower income and reduced buying p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iquidity ris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ertain types of savings (certificates of deposit) and investments (real estate) may be difficult to convert to cash quick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914400"/>
            <a:ext cx="815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isks are associated with every decision. The following are common risks related to personal and financial decision-making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opportunity costs and the time value of mone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pportunity cost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fers to what a person gives up when a decision is made. This cost, also called a trade-off, may involve one or more of your resources (time, money, and effort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erson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involve time, health, or energy. For example, time spent on studying usually means lost time for leisure or working. However, this trade-off may be appropriate since your learning and grades will likely improv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ncial opportunity cost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olve monetary values of decisions made. For example, the purchase of an item with money from your savings means you will no longer obtain interest on those funds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ime value of money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used to measure financial opportunity costs using interest calcul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example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nding $1,000 from a savings account paying 4 percent a year means a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y cost of $40 in lost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alculation: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1,000 x .04 (4 percent) x 1 year = $4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er 10 years, that $40 a year (saved at 4 percent) would have a value of over $480 whe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king into account compou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 Box 5"/>
          <p:cNvSpPr/>
          <p:nvPr/>
        </p:nvSpPr>
        <p:spPr>
          <a:xfrm>
            <a:off x="714960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1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1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8-21T21:01:32Z</dcterms:modified>
  <cp:revision>32</cp:revision>
  <dc:subject/>
  <dc:title>lesson three</dc:title>
</cp:coreProperties>
</file>