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898D-9644-4187-B4C9-A5198032A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29B4D-4191-433D-9A53-CC1ACE530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143F-BAA3-4B55-917F-0B9D9978A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50FB-4D4D-442C-B288-44C3DCB71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7DE2-14F7-44AD-BDAF-D1850336D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fou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irect Marketing Association (DMA) to have your name removed from the mailing lists of its member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Mail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Contact the DMA to have your name removed from telephone lists of its members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Eurostile-Demi"/>
              </a:rPr>
              <a:t>Direct Marketing Associ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elephone Preference Serv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P.O. Box 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Farmingdale, NY 11735-90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thedm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697500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6019920" y="2365200"/>
            <a:ext cx="274320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33520" y="2365200"/>
            <a:ext cx="2361960" cy="6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3429000" y="2365200"/>
            <a:ext cx="1781280" cy="9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57200" y="3733920"/>
            <a:ext cx="800100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457200" y="1984320"/>
            <a:ext cx="80010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– Mobile phones and de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xes – Internet – Radi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 – Call waiting – Three-way call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a transfer – WiFi – Streaming – S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99156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4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080" y="6323400"/>
            <a:ext cx="171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624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0164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6987600" y="6323400"/>
            <a:ext cx="1724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700884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Get to know some key federal privacy protection law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which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from unlawful government searches and seizure of their work product and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6: The Health Insurance Portability and Accountability Act of 1996 (HIPA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patients from the disclosure of sensitive, health-related information without thei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knowledge or cons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8: Children’s Online Privacy Protection Act of 1998 (COPP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hildren’s online privacy by regulating the collection of personal information from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children under 13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0: U.S. Congress Electronic Signatures in Global National Commerce Act (“ESIGN”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Helps ensure the legality and validity of electronic contrac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2003: Fair and Accurate Credit Transactions Act (FAC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Entitles consumers to one free credit report per year, enables them to opt out of credit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offers and features other provisions designed to help protect consumers from identity thef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701100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4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4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42:19Z</dcterms:modified>
  <cp:revision>53</cp:revision>
  <dc:subject/>
  <dc:title>lesson three</dc:title>
</cp:coreProperties>
</file>