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move the slid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13219-F674-4A03-B311-61662FF6F5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B9D1-1754-4A52-B20E-89F7FA32F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2862C-7289-462B-B034-149A7C3B4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8520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12840" y="990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8520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12840" y="3140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680" y="2286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439880" y="3140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439880" y="990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0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2" name="Line 8"/>
          <p:cNvSpPr/>
          <p:nvPr/>
        </p:nvSpPr>
        <p:spPr>
          <a:xfrm flipH="1">
            <a:off x="304560" y="609588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9"/>
          <p:cNvSpPr/>
          <p:nvPr/>
        </p:nvSpPr>
        <p:spPr>
          <a:xfrm flipH="1">
            <a:off x="304560" y="685800"/>
            <a:ext cx="84582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5"/>
          <p:cNvSpPr/>
          <p:nvPr/>
        </p:nvSpPr>
        <p:spPr>
          <a:xfrm flipH="1">
            <a:off x="304560" y="2971800"/>
            <a:ext cx="8001000" cy="0"/>
          </a:xfrm>
          <a:prstGeom prst="line">
            <a:avLst/>
          </a:prstGeom>
          <a:ln w="9360">
            <a:solidFill>
              <a:srgbClr val="91c3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304920" y="6184800"/>
            <a:ext cx="1657080" cy="520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lick to edit the title text forma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1"/>
          </p:nvPr>
        </p:nvSpPr>
        <p:spPr>
          <a:xfrm>
            <a:off x="7642080" y="299520"/>
            <a:ext cx="7732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3079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797b"/>
                </a:solidFill>
                <a:latin typeface="Times New Roman"/>
              </a:rPr>
              <a:t>Te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2"/>
          <p:cNvSpPr/>
          <p:nvPr/>
        </p:nvSpPr>
        <p:spPr>
          <a:xfrm>
            <a:off x="7678440" y="299880"/>
            <a:ext cx="70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0797b"/>
                </a:solidFill>
                <a:latin typeface="Verdana"/>
              </a:rPr>
              <a:t>Teens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0797b"/>
                </a:solidFill>
                <a:latin typeface="Verdana"/>
              </a:rPr>
              <a:t>lesson nine</a:t>
            </a:r>
            <a:endParaRPr b="0" lang="en-US" sz="4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057400" y="3124080"/>
            <a:ext cx="6400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s and loan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sentation slide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2" name="Picture 7" descr="Picture 1"/>
          <p:cNvPicPr/>
          <p:nvPr/>
        </p:nvPicPr>
        <p:blipFill>
          <a:blip r:embed="rId1"/>
          <a:stretch/>
        </p:blipFill>
        <p:spPr>
          <a:xfrm>
            <a:off x="7662960" y="3530520"/>
            <a:ext cx="64296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car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ariables includ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ength of the loa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thly paym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finance char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tal to be repai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7151040" y="632340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I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066680" y="3124080"/>
          <a:ext cx="7010640" cy="2581560"/>
        </p:xfrm>
        <a:graphic>
          <a:graphicData uri="http://schemas.openxmlformats.org/drawingml/2006/table">
            <a:tbl>
              <a:tblPr/>
              <a:tblGrid>
                <a:gridCol w="1447920"/>
                <a:gridCol w="1447920"/>
                <a:gridCol w="1447560"/>
                <a:gridCol w="1371600"/>
                <a:gridCol w="1295640"/>
              </a:tblGrid>
              <a:tr h="768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PR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ng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f loan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monthly payment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tal finance charge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 be repaid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58.1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69.98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293.04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198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.25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6.6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78.97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600.1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738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.00%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 months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 month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69.55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82.02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2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9,703.8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$10,921.20</a:t>
                      </a:r>
                      <a:endParaRPr b="1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Text Box 56"/>
          <p:cNvSpPr/>
          <p:nvPr/>
        </p:nvSpPr>
        <p:spPr>
          <a:xfrm>
            <a:off x="990720" y="2743200"/>
            <a:ext cx="70866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example of how loans can vary: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rrowing $8,000 at different rates</a:t>
            </a:r>
            <a:endParaRPr b="1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to calculate the total cost of a loa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7155000" y="6323400"/>
            <a:ext cx="1546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J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total cost of a loan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of the loan x APR x number of years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0,000 x 0.10 x 5 years = $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5,000 + $10,000 = $15,000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 estimate the amount of monthly paymen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to be paid divided by number of months of the loan*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140000"/>
              </a:lnSpc>
              <a:spcBef>
                <a:spcPts val="32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$15,000 / 60 = $250 per month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* These formulas produce estimates that are slightly higher than your actual costs and payments,      because they do not account for the reduction of interest payments as you repay the loa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he Truth in Lending Ac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he Truth in Lending Act requires lender to inform borrower of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at charges are included in amount financ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finance charge, in doll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nnual Percentage Rate (AP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ment schedu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amount of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tal sales pri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e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ate payment penalty, if 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curity intere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 char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713880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K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types of auto insurance coverag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liability (40–5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Bodily injury cover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perty-damage coverage (e.g.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o another person’s car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llision (up to 30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the physical damage to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r car as a result of a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imited by deducti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comprehensive (about 12% of premium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for damage caused by vandalism, hailstorms, floods,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ft, etc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medical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vers medical payments for driver and passengers injured in accid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ninsured motori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imburses you for bodily injury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 accidents caused by uninsured dri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towing and lab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rental reimbursemen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1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ys a specific amount per day to rent a car while yours is being fixe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152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L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insurance rates are set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ersonal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ex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rital statu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ersonal habits (e.g., smok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ype and frequency of vehicle use (e.g., commuting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geographic location (often classified by zip cod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ural” usually lowers rates, “urban” usually raises rat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riving record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ccident with death, bodily injury, or property damage in excess of $400 may trigger surcharge on premium for 3 yea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and kind of moving violations (and total of associated points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umber of years insured with the company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vehicle characteristic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amage, repair, and theft record of type and model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ge of ca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095960" y="6323400"/>
            <a:ext cx="1616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M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repossession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ights of credito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seize car as soon as you defaul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’t commit a breach of the peace, e.g., use physical force or threats of fo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n keep car or resell 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not keep or sell any personal property in car (not including improve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ch as a stereo or luggage rac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ri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uy back car by paying the full amount owed on it plus repossession expen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your legal responsibilit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t pay the “deficiency balance”—the amount of debt remaining even after your credit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sold your c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7110720" y="6323400"/>
            <a:ext cx="1601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N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leas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3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maller initial outlay than down payment when buying on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onthly lease payments may be less than monthly finance payment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Lease agreement provides detailed records for business purpos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3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ftentimes, all service charges related to maintenance are included in lease, so there is no additional outlay of money for regular mainten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advantag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No ownership interest in the vehic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ust meet requirements similar to applying for credi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dditional costs occur (such as for extra mileage, certain repairs, ending lease early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discussion of leasing vs. buy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You must decide which option makes the most sense for your situation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o you have cash available for a down payment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much of a monthly payment can you afford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How long do you plan to keep the car?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7110000" y="6323400"/>
            <a:ext cx="159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O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9"/>
          <p:cNvSpPr/>
          <p:nvPr/>
        </p:nvSpPr>
        <p:spPr>
          <a:xfrm>
            <a:off x="7137360" y="6323400"/>
            <a:ext cx="1587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A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sts of owning and operating a motor vehicle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wnership (fixed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preciation (based on purchase price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terest on loan (if buying on credit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nsuranc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Registration fee, license, tax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perating (variable) costs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Gasolin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il and other fluid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ir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intenance and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arking and toll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how much can you afford?(the 20-10 rule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never borrow more than 20% of your year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earn $400 a month after taxes, then your net income in one year is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 x $400 = $4,80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ate 20% of your annual net income to find your safe debt load: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,800 x 20% = $96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, you should never have more than $960 of debt outstan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debt (i.e., mortgage payments) should not be counted as part of the 2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onthly payments shouldn’t exceed 10% of your monthly net incom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r take-home pay is $400 a month 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$400 x 10% = $40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Your total monthly debt payments shouldn’t total more than $40 per mon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e: Housing payments (i.e., mortgage payments) should not be counted as part of the 10%, but other debt should be included, such as car loans, student loans and credit card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141320" y="6323400"/>
            <a:ext cx="158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B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consumer decision-making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to spend your money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really need this item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it worth the time I spend making the money to buy i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there a better use for my money right now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ciding on the right purchas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want (low, medium, or high)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level of quality do I ne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types of services and repairs does the dealer offe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wait until there is a sale on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buy a new or a used car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I buy a used car, should I buy it from a dealer or from a private party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uld I choose a car with a well-known name even if it costs mor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 I know anyone who owns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e the warranty and the service contracts on the car comparable with warranties and service contracts on similar cars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do consumer magazines say about the type of car I want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7127640" y="6323400"/>
            <a:ext cx="1581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C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used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how much you can afford to spen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ide which car models and options interest you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earch the reliability of the model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re the nearest repair facility is that works on the type of car you wa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ether parts are readily available for the type of car you want. Find rec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ces in used-car “blue books” in the library, on the Internet, in newspaper ad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sumer magazines,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hop for financ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ctor in the costs of the loan and the cost of maintenanc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now how to read a “Buyer’s Guide” stick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 you shop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the reputation of 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warranty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d out what type of service contract comes with the ca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7131240" y="6323400"/>
            <a:ext cx="159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D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ources of used car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134840" y="6323400"/>
            <a:ext cx="1572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E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new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provide quality used vehicles; service department available; higher prices than other sourc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used-car dealer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pecialize in previously owned vehicles; limited warranty (if any); vehicles may be in poor conditio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private parti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y be a good buy if vehicle was well maintained; few consumer protection regulations apply to private party sa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other sources </a:t>
            </a: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such as auctions or sales by government agencies, auto rental companies, and on the Internet; most of these vehicles have been driven many mile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hopping for a new car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you begin shopping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ich car model and specific 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Find out the invoice price and the true cost to the dealer of the model and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options you want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how much you are willing to pay the dealer above the invoice pri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Make your offer to as many dealers as possibl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l sales prices with other dealers and buying servi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mpare financing costs from various sources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If you already have a car, find out its value independent of the dealer’s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ade-in offer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ry to sell your old car yourself (dealers usually give better deals without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 trade-in)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Decide whether you need an optional service contract or credit insurance.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157520" y="6323400"/>
            <a:ext cx="1570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F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warranties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as-is (no warranty)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 expressed or implied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f you buy a car and have problems with it, you must pay for any repairs yourself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me states do not permit “as-is” sales on used ca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implied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merchantability—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product will do what it is design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arranty of fitness for a particular purpose—a product will do what the seller promises it will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ways in effect unless the product is sold as-is or the seller says in writing that there is no warrant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419360" y="9907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aler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ffered and specifically written b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dealer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rms and conditions can vary greatl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eful to compare warranty term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n similar cars or negotiate warranty cover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unexpired manufacturer’s warranti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-165240">
              <a:lnSpc>
                <a:spcPct val="120000"/>
              </a:lnSpc>
              <a:spcBef>
                <a:spcPts val="3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nufacturer’s warranty can sometimes be transferred to the new owner. There may be a fee for the transfer proces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120080" y="6323400"/>
            <a:ext cx="159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G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797b"/>
                </a:solidFill>
                <a:latin typeface="Verdana"/>
              </a:rPr>
              <a:t>service contracts (also called “extended warranties”)</a:t>
            </a:r>
            <a:endParaRPr b="0" lang="en-US" sz="2000" spc="-1" strike="noStrike">
              <a:solidFill>
                <a:srgbClr val="30797b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Verdana"/>
              </a:rPr>
              <a:t>before deciding to buy a service contract, find out: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ich repairs the contract cove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warranty already covers the same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vehicle is likely to need repairs and, if so, the potential 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cost of repair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deductible and, if so, what it i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repairs and service can be performed at locations other than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at the dealership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contract covers incidental expenses such as towing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re is a cancellation or refund policy and, if so, the cost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the dealer or company offering the service is reputable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326"/>
              </a:spcBef>
              <a:buClr>
                <a:srgbClr val="000000"/>
              </a:buClr>
              <a:buFont typeface="Times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Verdana"/>
              </a:rPr>
              <a:t>Whether you can purchase the service contract late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26"/>
              </a:spcBef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112880" y="6323400"/>
            <a:ext cx="1595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30797b"/>
                </a:solidFill>
                <a:latin typeface="Verdana"/>
              </a:rPr>
              <a:t>teens – lesson 9 - slide</a:t>
            </a:r>
            <a:r>
              <a:rPr b="1" lang="en-US" sz="900" spc="-1" strike="noStrike">
                <a:solidFill>
                  <a:srgbClr val="30797b"/>
                </a:solidFill>
                <a:latin typeface="Verdana"/>
              </a:rPr>
              <a:t> 9-H</a:t>
            </a:r>
            <a:endParaRPr b="1" lang="en-US" sz="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5:31:30Z</dcterms:created>
  <dc:creator>Derek Oyen</dc:creator>
  <dc:description/>
  <dc:language>en-US</dc:language>
  <cp:lastModifiedBy>Anne Braggins</cp:lastModifiedBy>
  <dcterms:modified xsi:type="dcterms:W3CDTF">2019-09-04T23:44:54Z</dcterms:modified>
  <cp:revision>73</cp:revision>
  <dc:subject/>
  <dc:title>lesson three</dc:title>
</cp:coreProperties>
</file>