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61813-DD43-4BFE-9833-4552F09DE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50E5-44A8-4746-BA04-990964D87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13225-599A-4B26-8C1B-9DC3D3E65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FFFF-9A85-4694-A9D2-385586144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1FC5-3CB9-4042-9A2D-4311AFD1F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2FD0B-CD7E-4AED-8E73-23083C987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irte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700560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73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914520" y="6323400"/>
            <a:ext cx="179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897240" y="6323400"/>
            <a:ext cx="1796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D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redit Counseling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700884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3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4T20:23:16Z</dcterms:modified>
  <cp:revision>33</cp:revision>
  <dc:subject/>
  <dc:title>lesson three</dc:title>
</cp:coreProperties>
</file>