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AEC8-85AB-4CE0-B81F-2C45D0640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84DA-CFF5-4E66-8CB3-8DA193FFD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5400-9AE2-4715-B816-A634EB6D20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1F4B-6256-4BED-A2F8-5BE3E944A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4FCA-6216-4599-85A2-335CA9B92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0965F-35C0-468A-8D02-39309E40D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welv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08480" y="6323400"/>
            <a:ext cx="168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s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12440" y="6323400"/>
            <a:ext cx="167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99480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120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6953400" y="6323400"/>
            <a:ext cx="174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made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6968160" y="6323400"/>
            <a:ext cx="173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6968880" y="6323400"/>
            <a:ext cx="173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ome of the most common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996240" y="6323400"/>
            <a:ext cx="171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6994800" y="6323400"/>
            <a:ext cx="171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% interest…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10 years you’ll have…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995520" y="6323400"/>
            <a:ext cx="1715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,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985080" y="6323400"/>
            <a:ext cx="1712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990120" y="6323400"/>
            <a:ext cx="172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6992280" y="6323400"/>
            <a:ext cx="170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1028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6974280" y="6323400"/>
            <a:ext cx="172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970320" y="6323400"/>
            <a:ext cx="172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2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2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4290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19:10:33Z</dcterms:modified>
  <cp:revision>51</cp:revision>
  <dc:subject/>
  <dc:title>lesson three</dc:title>
</cp:coreProperties>
</file>