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088BF-B4B7-4DD3-9EE9-27E162F7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2ECC4-D777-4D96-9D43-83681EF0F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3F302-8EB7-4371-A770-D33E75106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5" name="Rectangle 1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Picture 8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304920" y="6172200"/>
            <a:ext cx="1657080" cy="53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Picture 11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i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71326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3808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</a:t>
            </a:r>
            <a:r>
              <a:rPr b="0" lang="ja-JP" sz="1200" spc="-1" strike="noStrike">
                <a:solidFill>
                  <a:srgbClr val="000000"/>
                </a:solidFill>
                <a:latin typeface="Verdana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712800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5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5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4T19:59:32Z</dcterms:modified>
  <cp:revision>29</cp:revision>
  <dc:subject/>
  <dc:title>lesson three</dc:title>
</cp:coreProperties>
</file>